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5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19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22.jpeg" ContentType="image/jpeg"/>
  <Override PartName="/ppt/media/image32.png" ContentType="image/png"/>
  <Override PartName="/ppt/media/image7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9.jpeg" ContentType="image/jpeg"/>
  <Override PartName="/ppt/media/image31.png" ContentType="image/png"/>
  <Override PartName="/ppt/media/image12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wmf" ContentType="image/x-wmf"/>
  <Override PartName="/ppt/media/image10.jpeg" ContentType="image/jpeg"/>
  <Override PartName="/ppt/media/image14.png" ContentType="image/png"/>
  <Override PartName="/ppt/media/image15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6.jpeg" ContentType="image/jpeg"/>
  <Override PartName="/ppt/media/image18.png" ContentType="image/png"/>
  <Override PartName="/ppt/media/image28.jpeg" ContentType="image/jpeg"/>
  <Override PartName="/ppt/media/image20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C425-369B-4EF5-8432-6608BA53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DED5-678D-4855-A950-43456FEF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531-46DC-4DBF-BC92-552FDD943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E44-3489-4E63-8ADC-71C1BF751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DD98-B231-46E8-AB58-E775E6351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96E05-30CF-4311-8752-9B360D1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6EC-BDC8-405E-A769-1F016E0B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179-9F36-44E7-A9E4-0B56F6D7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606-6EEA-4829-8F11-A19218101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AEE-7C35-4B8F-B5E3-0399E3413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5D89-4CE9-4D9A-861E-6A5EB837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2831-EA90-46CC-A050-B6F7C8BD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F64-4172-4C87-B229-14C015083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99840" y="533520"/>
            <a:ext cx="6095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Unicode MS"/>
              </a:rPr>
              <a:t>Native Americ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90720" y="1295280"/>
            <a:ext cx="716256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tive Americans were the people who lived in America before people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countries came he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352680" y="3048120"/>
            <a:ext cx="261468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0720" y="914400"/>
            <a:ext cx="693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62120" y="609480"/>
            <a:ext cx="7619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any Native American culture groups built their homes in villages or cit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181480"/>
            <a:ext cx="731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se are the remains of an ancien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nasazi cliff vill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828800" y="1523880"/>
            <a:ext cx="5524560" cy="36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14400" y="91440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 culture groups, like the Plains Indians, wer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omadic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502920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could not live in one place.  They had to move around to follow the buffal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80060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90720" y="68580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of each region also affected how each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 got its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4038480"/>
            <a:ext cx="7162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Eastern Woodlands were very lucky.  That region had forests, lakes and rivers, a nearby ocean, and good climate.  These Native Americans could farm, hunt, and fish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2046240" cy="1874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824280" y="2133720"/>
            <a:ext cx="1863720" cy="169200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24480" y="2286000"/>
            <a:ext cx="16923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43000" y="685800"/>
            <a:ext cx="6726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no forests in the Southwest region.  The land was rocky and uneve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4419720"/>
            <a:ext cx="6705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mesas, or large rocks with flat tops.  The Indians who lived in this region were farmers.  They planted their crops on the tops of m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981080" y="1676520"/>
            <a:ext cx="52466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5105520"/>
            <a:ext cx="7467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mountain region were known as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gatherer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895480" y="762120"/>
            <a:ext cx="327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143000" y="2514600"/>
            <a:ext cx="6705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few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in this region.  These Native Americans gathered acorns, seeds, and fruits.  They also dug up plant roots to eat for f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1179720" cy="1447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553080" y="838080"/>
            <a:ext cx="1443240" cy="14637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90720" y="4343400"/>
            <a:ext cx="1749240" cy="1725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477120" y="4267080"/>
            <a:ext cx="15112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66680" y="838080"/>
            <a:ext cx="6934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from the Northwest Coast hunted sea animals in the Pacific Ocean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4724280"/>
            <a:ext cx="7086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salmon in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ivers for them to ea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also hunted animals in nearby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3880" y="1828800"/>
            <a:ext cx="600084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4191120"/>
            <a:ext cx="754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uffalo were a natural resource in the Plains region.  The meat was used for food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skins were used for shelters and clothing.  The bones were used for too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46160" y="660240"/>
            <a:ext cx="5216760" cy="34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066680" y="838080"/>
            <a:ext cx="7010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hysical surroundings of the regions affected each culture group’s way of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fe in other ways, to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480060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as much clay in the Southwest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that lived in this region used the clay to make beautiful potte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886120" y="2079720"/>
            <a:ext cx="337176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762120"/>
            <a:ext cx="7543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Northwest Coast region had many forests.  The Native Americans in th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region used wood from the fores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carve tall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totem pol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19320" y="5029200"/>
            <a:ext cx="66294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carvings on each totem pole told about a family’s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352680" y="2514600"/>
            <a:ext cx="240048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914400"/>
            <a:ext cx="723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5029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took care of the earth and onl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used what they need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666880" y="1600200"/>
          <a:ext cx="3783240" cy="29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600200"/>
                    <a:ext cx="3783240" cy="29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6858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re were many buffalo in the Plains region.  Native Americans who live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 this region were hunt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191120"/>
            <a:ext cx="7010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 Plains Indians had special ceremonies before big hunts.  They danced to the music of drums.  They thought this would bring them good luck on the h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2068560" cy="22971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638680" y="1981080"/>
            <a:ext cx="196704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066680" y="990720"/>
            <a:ext cx="7162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4724280"/>
            <a:ext cx="685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6858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in the California Inter-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mountain region were expert basket weaver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257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made beautiful basket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ut of grasses and pla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362320" y="1662120"/>
            <a:ext cx="4724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990720" y="6858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hysical surroundings affected how the Indians traveled, too.  All Indians walke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19520" y="23623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lains and Southwest Indians got horses from Spanish explore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4114800"/>
            <a:ext cx="5867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Indians in the Eastern Woodlands, Northwest Coast, and California Intermountain regions used ca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2217600" cy="1989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095880" y="3809880"/>
            <a:ext cx="233208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762120" y="4724280"/>
            <a:ext cx="7619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 culture groups had different ways of life due to their different physical surroundings an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52480" y="685800"/>
            <a:ext cx="5334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et’s review.  We know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523880"/>
            <a:ext cx="74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were the first America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0574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respected nat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2590920"/>
            <a:ext cx="7391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natural resourc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1240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lived in different reg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3657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had different hom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9112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399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got food in different w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76520" y="533520"/>
            <a:ext cx="99360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066680" y="99072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hoto 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1905120"/>
            <a:ext cx="71625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 - Spotted Tail’s fami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estern History/Genealogy Department, Denver Public Library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971800"/>
            <a:ext cx="65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age 14 – Fruit gather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rthwestern University Library,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Edward S. Curtis's 'The North American Indian': the Photographic Imag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2001.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ttp://memory.loc.gov/ammem/award98/ienhtml/curthome.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914400"/>
            <a:ext cx="716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Native Americans used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meet their need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90720" y="487692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495680"/>
            <a:ext cx="7086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 are things in nature that people can u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3880" y="3733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r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373392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w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528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st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1680" y="3733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buffa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43000" y="2503440"/>
            <a:ext cx="1447920" cy="846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052800" y="2503440"/>
            <a:ext cx="1246320" cy="9493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761000" y="2503440"/>
            <a:ext cx="1520640" cy="10065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743880" y="2503440"/>
            <a:ext cx="125712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990720" y="106668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</a:t>
            </a:r>
            <a:br>
              <a:rPr sz="3200"/>
            </a:b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2438280"/>
            <a:ext cx="73915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 people in 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have the same way of l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411480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culture group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is a group of people who live in the same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region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143000" y="510552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Native Americans lived in six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fferent reg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143000" y="609480"/>
            <a:ext cx="6858000" cy="443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685800" y="533520"/>
            <a:ext cx="784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2800" spc="-1" strike="noStrike">
                <a:solidFill>
                  <a:srgbClr val="339966"/>
                </a:solidFill>
                <a:latin typeface="Arial Unicode MS"/>
              </a:rPr>
              <a:t>physical surroundings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4343400"/>
            <a:ext cx="335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thers were mostly dese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495680" y="1600200"/>
            <a:ext cx="3657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ome regions had fores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657600" cy="2492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19720" y="3657600"/>
            <a:ext cx="3848040" cy="25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219320" y="525780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had oceans nearby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295280" y="990720"/>
            <a:ext cx="655344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region had different </a:t>
            </a:r>
            <a:r>
              <a:rPr b="0" lang="en-US" sz="3200" spc="-1" strike="noStrike">
                <a:solidFill>
                  <a:srgbClr val="339966"/>
                </a:solidFill>
                <a:latin typeface="Arial Unicode MS"/>
              </a:rPr>
              <a:t>natural resourc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4724280"/>
            <a:ext cx="76201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Each culture group used the natural resources in its region to meet its nee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905120" y="1523880"/>
            <a:ext cx="508608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914400" y="3276720"/>
            <a:ext cx="723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near deserts used clay or stones to build their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609480"/>
            <a:ext cx="6637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or this reason, Native American cultur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oups had different homes. 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4191120"/>
            <a:ext cx="7543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ose who lived on the Plains used buffalo skins to make their home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85800" y="5105520"/>
            <a:ext cx="78487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till others lived near forests.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y built their homes of wo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2514600" cy="171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13622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410080" y="2057400"/>
            <a:ext cx="2895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1T14:54:58Z</dcterms:created>
  <dc:creator>LAyers</dc:creator>
  <dc:description/>
  <dc:language>en-US</dc:language>
  <cp:lastModifiedBy>eunice.skubal</cp:lastModifiedBy>
  <dcterms:modified xsi:type="dcterms:W3CDTF">2012-03-05T23:26:33Z</dcterms:modified>
  <cp:revision>115</cp:revision>
  <dc:subject/>
  <dc:title>Native Americans</dc:title>
</cp:coreProperties>
</file>